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1B57-1FD4-4868-9EB4-459721199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7A37-C2F4-42BA-B4B2-95F41E4F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7E1C-EE6B-4162-8485-51CC75194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5AE8-0E60-4BEB-BD63-73CC38011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02B7-AED6-4350-B888-70203D661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473F-F108-47CD-B08A-16DFEC9F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9A00-2139-44C2-BBC8-DA2C3050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C3BE-5C3D-422E-A43E-83E22F5F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6D72-F50F-4B86-8050-1B44350B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4A64-DDB4-4AD2-8615-9DE5DA50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EAB9-9739-4E28-802B-9D653D53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A285-8534-4635-943C-E54F03B6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827D-A354-4E05-AD3C-36393936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BAD3-D7BF-443A-8011-6CFA033E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F863-A3CE-43FB-AB23-3A7BD947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05A4-994C-42E9-8F1D-DF800F729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C01D-44C9-42F2-9DF4-20106375E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021A-10B0-4E19-B4A3-18604644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7904-AD1E-43A2-ABF6-B58E8C49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C621-F472-47AD-9E54-95AB2C2B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5B87-BC89-4DA8-96A8-42E8A50B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1B5E-3190-44E6-BAD5-ED06CFCF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4A8B-3FA5-40D2-BA8F-587CEADE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082A-9DA9-4EAD-89BE-FF65EBB0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3CFF-124A-4452-83C5-0A40693AB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E416-74C9-448A-BD52-1FCBF8368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00000" y="2421000"/>
            <a:ext cx="82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ипы сред обитани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способленность к ни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84720" y="5589720"/>
            <a:ext cx="439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шакова Л.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Брединская СОШ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Характеристика среды  и приспособленность к ней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слорода –недостато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ы –по-разн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пература- ровнее, чем на воздух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ет -недостато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текаемая форма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пательные коне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або развиты органы чув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льно развито обоняние, осяз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Кто занимает наземно-воздушную среду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3744720" cy="2016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3529080" cy="2087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24000" y="4005360"/>
            <a:ext cx="3600360" cy="2233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4643280" y="3860640"/>
            <a:ext cx="3384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Кто занимает водную среду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020000" y="1844640"/>
            <a:ext cx="1908000" cy="2016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2017800" cy="2016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484360" y="1844640"/>
            <a:ext cx="2016360" cy="2017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79280" y="1916280"/>
            <a:ext cx="194328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27746E-006 L -2.77778E-007 0.17826 E">
                                      <p:cBhvr>
                                        <p:cTn id="14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4.45087E-006 L -6.11111E-006 0.24115 E">
                                      <p:cBhvr>
                                        <p:cTn id="144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Кто занимает почвенную среду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3628" t="21326" r="51755" b="32552"/>
          <a:stretch/>
        </p:blipFill>
        <p:spPr>
          <a:xfrm>
            <a:off x="179280" y="1916280"/>
            <a:ext cx="2024280" cy="2041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877080" y="1916280"/>
            <a:ext cx="2014560" cy="2089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3280" y="1844640"/>
            <a:ext cx="2087640" cy="2089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2340000" y="1916280"/>
            <a:ext cx="2087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4509E-006 L -0.62222 0.38798 E">
                                      <p:cBhvr>
                                        <p:cTn id="150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L 0.63785 0.35653 E">
                                      <p:cBhvr>
                                        <p:cTn id="154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Выберите организмы, живущие в водной среде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020000" y="1628640"/>
            <a:ext cx="1800000" cy="1943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411280" y="162864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643280" y="1628640"/>
            <a:ext cx="1800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7884 L 0.004 0.41433 E">
                                      <p:cBhvr>
                                        <p:cTn id="160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44509E-006 L -5.55556E-007 0.30404 E">
                                      <p:cBhvr>
                                        <p:cTn id="164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Выберите правильное утверждение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Летучие мыши населяют наземно-воздушную среду об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У всех водных животных орган передвижения-плав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Изменение температуры воздуха - это фактор живой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Дельфин и акула имеют внешнее сходство, потому что населяют одну и ту же среду об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Большинство насекомых занимает водную среду об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Пиявки занимают водную среду об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На растения оказывают влияние только факторы неживой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У  крота плоские передние лапы с большими когтями, так как он живет в поч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.114-11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00000" y="1628640"/>
            <a:ext cx="763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Среда обитания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это все то, что окружает организм и прямо или косвенно на него влия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68360" y="476280"/>
            <a:ext cx="47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акторы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3240" y="3130560"/>
            <a:ext cx="299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кторы живой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43280" y="450864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кторы неживой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24360" y="321300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ятельность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619280" y="1125360"/>
            <a:ext cx="1657440" cy="194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1125360"/>
            <a:ext cx="0" cy="331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1125360"/>
            <a:ext cx="115272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24000" y="333360"/>
            <a:ext cx="51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реда обит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700280"/>
            <a:ext cx="29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емно-воздуш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3640" y="1844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00720" y="19162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чв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76360" y="981000"/>
            <a:ext cx="1224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98100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43640" y="981000"/>
            <a:ext cx="136836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22837" t="34236" r="27556" b="-378"/>
          <a:stretch/>
        </p:blipFill>
        <p:spPr>
          <a:xfrm>
            <a:off x="3203640" y="2349360"/>
            <a:ext cx="3024000" cy="3024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3213000"/>
            <a:ext cx="2987640" cy="3645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335640" y="3213000"/>
            <a:ext cx="2808360" cy="3645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Наземно-воздушная среда обитания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23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300720" y="1916280"/>
            <a:ext cx="2374920" cy="2304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268360" y="4581360"/>
            <a:ext cx="2232360" cy="2089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788000" y="4581360"/>
            <a:ext cx="2303280" cy="2089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3564000" y="1989000"/>
            <a:ext cx="2232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Характеристика среды и приспособленность к ней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слорода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ы- не всегда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пература- значительно меня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ета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нехватке воды- запас 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стопад, отлет птиц, смена шер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тивно передвигаются- бег, прыжки, по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Водная среда обитания.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2376360" cy="2303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84720" y="1628640"/>
            <a:ext cx="2303640" cy="2233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763640" y="4221000"/>
            <a:ext cx="2232000" cy="2376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427640" y="4221000"/>
            <a:ext cx="2376360" cy="2303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3419640" y="1628640"/>
            <a:ext cx="2160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Характеристика среды обитания и приспособленность к ней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ы -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слорода – не достаточ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пература – меняется меньш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ет – не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способления для пла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тения живут у поверх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ивотные живут повсемес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Примеры животных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62120" y="2055960"/>
            <a:ext cx="3662280" cy="3519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rcRect l="2749" t="21029" r="50938" b="34889"/>
          <a:stretch/>
        </p:blipFill>
        <p:spPr>
          <a:xfrm>
            <a:off x="5003640" y="2060640"/>
            <a:ext cx="35290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3:38:18Z</dcterms:created>
  <dc:creator>User</dc:creator>
  <dc:description/>
  <dc:language>en-US</dc:language>
  <cp:lastModifiedBy>КарМаН</cp:lastModifiedBy>
  <dcterms:modified xsi:type="dcterms:W3CDTF">2011-11-02T13:20:23Z</dcterms:modified>
  <cp:revision>9</cp:revision>
  <dc:subject/>
  <dc:title>Слайд 1</dc:title>
</cp:coreProperties>
</file>